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06E1-836E-4767-AE0C-5546B2D974A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groups, rank the paragraphs / suggestio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5BD7-4E9C-4358-B378-ADC98B752C3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ECAC-3B6D-4F87-8FD1-9769F01F148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canning task for learners to get an idea of the layout, ideas and check they know key term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4F89-73F9-4D82-95CB-A20BC955EE9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sk could be set as homework, for learners to read the text in more detail at their own pace. The lesson could then continue with the discussion (and writing follow-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8D70-1BD0-42CB-A3FD-17F1C0C0CF1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formal letter, planning their ideas and proof-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writing, the letters could be blu-tacked to the wall for everyone else to read and comment on: which one is the best one to send/why?; which errors could be corrected.</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8CC2-269B-4133-A55C-FE9E450F8C0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starter: 10 – 20 mins; quiz + checking in text: 20 – 30 mins; reading text 1 + discussion: 20 – 30 mins; reading text 2 + discussion: 20 – 30 mins; writing: 30 – 40 mins. It could also be done over two lessons, leaving learners to read the 2</a:t>
            </a:r>
            <a:r>
              <a:rPr b="0" lang="en-GB" sz="1200" spc="-1" strike="noStrike" baseline="30000">
                <a:solidFill>
                  <a:srgbClr val="000000"/>
                </a:solidFill>
                <a:latin typeface="Calibri"/>
              </a:rPr>
              <a:t>nd</a:t>
            </a:r>
            <a:r>
              <a:rPr b="0" lang="en-GB" sz="1200" spc="-1" strike="noStrike">
                <a:solidFill>
                  <a:srgbClr val="000000"/>
                </a:solidFill>
                <a:latin typeface="Calibri"/>
              </a:rPr>
              <a:t> text for homework between the lesson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4BB2-5C30-4BE9-8322-CE201B45766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might need to check understanding of key vocabulary here: eg. </a:t>
            </a:r>
            <a:r>
              <a:rPr b="1" lang="en-GB" sz="1200" spc="-1" strike="noStrike">
                <a:solidFill>
                  <a:srgbClr val="000000"/>
                </a:solidFill>
                <a:latin typeface="Calibri"/>
              </a:rPr>
              <a:t>censorship, to download, pornography, to share files, to have acces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891C-566F-44C9-8A4A-ECAA8D2D2D7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shown on a smart board / projector screen, this can be exploited more eg. pairs are assigned a section which they have to explain to the others. Language can be fed in and practised eg. percentages, compariso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339D-5EC0-4B05-88B3-B5039CE3C95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monitor for errors and write these to the board afterwards for learners to self/peer correc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B110-6E17-4506-9DE7-7BC00CD6B97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 it</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B42F-3AE7-4A0F-AA9A-B6DE6ED4A04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s can print out and cut up the sub-headings and paragraphs for learners to read, discuss and match in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paragraphs could be matched to more than one sub-heading, but the aim of this is to get learners reading, discussing and interacting with the language and idea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4BED-8F36-4DBD-BDB8-BF7A9EFE182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94B4F-1D83-4090-918F-0F88C110B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80271-7178-4793-A94F-A6645C750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2D9A5-3B68-40C4-A60A-28BB9FE3C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10DB5-1890-4B76-A327-A9623C3FE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96E5B-5139-4390-B4F0-0023D1A82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8DB40-B7D7-4F56-B6C7-C96A20A22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D0D5D-98D3-4C92-86E5-8D08ACB11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1D041-0BE3-46A6-A705-AFD5977A4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49BFF-277D-41AE-B525-88B7B7570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2BECD-20A8-476B-8A1D-67B4FD647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121A1-E2CF-4310-BEB7-643C9E4DB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093C7-5B8E-4170-B266-EA120C5DF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04AC-B394-423B-B8A8-6C7CA1507D4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Digital_freedom:_don%27t_get_angry,_be_ope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avaaz.org/833/this-will-put-psychics-out-of-business?utm_source=facebook_avaaz4&amp;utm_medium=social_media&amp;utm_campaign=hot-video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ewiki.newint.org/index.php/How_to_be_fre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500280"/>
            <a:ext cx="77724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 </a:t>
            </a:r>
            <a:r>
              <a:rPr b="0" lang="en-GB" sz="9600" spc="-1" strike="noStrike">
                <a:solidFill>
                  <a:srgbClr val="000000"/>
                </a:solidFill>
                <a:latin typeface="Calibri"/>
              </a:rPr>
              <a:t>Free Interne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755280" y="5084280"/>
            <a:ext cx="748836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computer_typing2_opt.jpeg"/>
          <p:cNvPicPr/>
          <p:nvPr/>
        </p:nvPicPr>
        <p:blipFill>
          <a:blip r:embed="rId1"/>
          <a:stretch/>
        </p:blipFill>
        <p:spPr>
          <a:xfrm>
            <a:off x="5435640" y="1484280"/>
            <a:ext cx="3305160" cy="2005200"/>
          </a:xfrm>
          <a:prstGeom prst="rect">
            <a:avLst/>
          </a:prstGeom>
          <a:ln w="0">
            <a:noFill/>
          </a:ln>
        </p:spPr>
      </p:pic>
      <p:pic>
        <p:nvPicPr>
          <p:cNvPr id="51" name="Picture 5" descr="internet facts.jpg"/>
          <p:cNvPicPr/>
          <p:nvPr/>
        </p:nvPicPr>
        <p:blipFill>
          <a:blip r:embed="rId2"/>
          <a:stretch/>
        </p:blipFill>
        <p:spPr>
          <a:xfrm>
            <a:off x="108000" y="115920"/>
            <a:ext cx="3462120" cy="2449440"/>
          </a:xfrm>
          <a:prstGeom prst="rect">
            <a:avLst/>
          </a:prstGeom>
          <a:ln w="0">
            <a:noFill/>
          </a:ln>
        </p:spPr>
      </p:pic>
      <p:pic>
        <p:nvPicPr>
          <p:cNvPr id="52" name="Picture 5" descr="new internationalist logo black on white.jpg"/>
          <p:cNvPicPr/>
          <p:nvPr/>
        </p:nvPicPr>
        <p:blipFill>
          <a:blip r:embed="rId3"/>
          <a:stretch/>
        </p:blipFill>
        <p:spPr>
          <a:xfrm>
            <a:off x="3782880" y="189000"/>
            <a:ext cx="487044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5" name=""/>
          <p:cNvSpPr txBox="1"/>
          <p:nvPr/>
        </p:nvSpPr>
        <p:spPr>
          <a:xfrm>
            <a:off x="179280" y="692280"/>
            <a:ext cx="2952720" cy="59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
          <p:cNvSpPr txBox="1"/>
          <p:nvPr/>
        </p:nvSpPr>
        <p:spPr>
          <a:xfrm>
            <a:off x="2916000" y="692280"/>
            <a:ext cx="6119640" cy="59767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c) It costs nothing, it is often more stable and it sometimes works better. It also lets you see the code your computer is running, and change this code if necessary. Free software is now far easier to use together with other program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a)Try these:  For browsing: Firefox; For secure web chat: CryptoCat; For word processing: LibreOffice; For graphic editing: GIM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g) Help the free software community to grow. You can report bugs, request new features, offer to do translation or design, or – if you’re good at coding– write cod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b) More artists are releasing their work under free or open licences like those from Creative Commons. Listen to their music, read their books, and make donations to support this growing re-mix culture:freemusicarchive.org search.creativecommons.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7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d) Software can’t do anything alone. We need political change, better privacy and regulation of copyright too. Join these groups and support the fight for a free internet: Electronic Frontier Foundation Open Rights Group Liberty Index on Censorshi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0f) Digital Survival Guide: Basic intro to computers, internet and mobile use; Top 12 ways to protect your online privacy: eff.org; Look at these technical resources that make your internet use more private: techtoolsforactivism.org</a:t>
            </a:r>
            <a:endParaRPr b="0" lang="en-US" sz="12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 advice given in the tex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the suggestions in groups and put them in the order of most useful to least useful.</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ich suggestion(s) are you going to try?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000"/>
            <a:ext cx="4186080" cy="48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000000"/>
                </a:solidFill>
                <a:uFillTx/>
                <a:latin typeface="Calibri"/>
              </a:rPr>
              <a:t>Reading text 2       </a:t>
            </a:r>
            <a:r>
              <a:rPr b="1" i="1" lang="en-GB" sz="5400" spc="-1" strike="noStrike">
                <a:solidFill>
                  <a:srgbClr val="000000"/>
                </a:solidFill>
                <a:latin typeface="Calibri"/>
              </a:rPr>
              <a:t>Discuss:</a:t>
            </a:r>
            <a:r>
              <a:rPr b="0" lang="en-GB" sz="5400" spc="-1" strike="noStrike">
                <a:solidFill>
                  <a:srgbClr val="000000"/>
                </a:solidFill>
                <a:latin typeface="Calibri"/>
              </a:rPr>
              <a:t> How can we keep human rights in a digital world?</a:t>
            </a:r>
            <a:endParaRPr b="0" lang="en-US" sz="5400" spc="-1" strike="noStrike">
              <a:solidFill>
                <a:srgbClr val="000000"/>
              </a:solidFill>
              <a:latin typeface="Calibri"/>
            </a:endParaRPr>
          </a:p>
        </p:txBody>
      </p:sp>
      <p:sp>
        <p:nvSpPr>
          <p:cNvPr id="80" name=""/>
          <p:cNvSpPr txBox="1"/>
          <p:nvPr/>
        </p:nvSpPr>
        <p:spPr>
          <a:xfrm>
            <a:off x="457200" y="5444640"/>
            <a:ext cx="8229600" cy="107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Digital_freedom:_don%27t_get_angry,_be_o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3" descr="digital rights.jpeg"/>
          <p:cNvPicPr/>
          <p:nvPr/>
        </p:nvPicPr>
        <p:blipFill>
          <a:blip r:embed="rId2"/>
          <a:stretch/>
        </p:blipFill>
        <p:spPr>
          <a:xfrm>
            <a:off x="4932360" y="260280"/>
            <a:ext cx="369720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tch these? Discuss, then scan quickly (5 minutes) through the text to check:</a:t>
            </a:r>
            <a:br>
              <a:rPr sz="3600"/>
            </a:br>
            <a:r>
              <a:rPr b="0" lang="en-GB" sz="1400" spc="-1" strike="noStrike">
                <a:solidFill>
                  <a:srgbClr val="000000"/>
                </a:solidFill>
                <a:latin typeface="Calibri"/>
              </a:rPr>
              <a:t>http://eewiki.newint.org/index.php/Digital_freedom:_don%27t_get_angry,_be_open</a:t>
            </a:r>
            <a:br>
              <a:rPr sz="1400"/>
            </a:br>
            <a:endParaRPr b="0" lang="en-US" sz="1400" spc="-1" strike="noStrike">
              <a:solidFill>
                <a:srgbClr val="000000"/>
              </a:solidFill>
              <a:latin typeface="Calibri"/>
            </a:endParaRPr>
          </a:p>
        </p:txBody>
      </p:sp>
      <p:sp>
        <p:nvSpPr>
          <p:cNvPr id="83" name=""/>
          <p:cNvSpPr txBox="1"/>
          <p:nvPr/>
        </p:nvSpPr>
        <p:spPr>
          <a:xfrm>
            <a:off x="179280" y="1989000"/>
            <a:ext cx="2952720" cy="413712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Bitcoin</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RM</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Secushare</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FSF</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5) cdjns</a:t>
            </a:r>
            <a:endParaRPr b="0" lang="en-US" sz="4200" spc="-1" strike="noStrike">
              <a:solidFill>
                <a:srgbClr val="000000"/>
              </a:solidFill>
              <a:latin typeface="Calibri"/>
            </a:endParaRPr>
          </a:p>
        </p:txBody>
      </p:sp>
      <p:sp>
        <p:nvSpPr>
          <p:cNvPr id="84" name=""/>
          <p:cNvSpPr txBox="1"/>
          <p:nvPr/>
        </p:nvSpPr>
        <p:spPr>
          <a:xfrm>
            <a:off x="3276360" y="1600200"/>
            <a:ext cx="5616360" cy="49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his restricts and controls what you can do on your own computer, i-phone or e-boo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a group who develop free, open versions of softw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digital currency that could make banks un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way to protect personal freedom and privacy and avoid censorshi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a safe social net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Bitco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DRM</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Secusha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FSF</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cdj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
          <p:cNvSpPr txBox="1"/>
          <p:nvPr/>
        </p:nvSpPr>
        <p:spPr>
          <a:xfrm>
            <a:off x="2484000" y="1600200"/>
            <a:ext cx="620244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c) a digital currency that could make banks unnecess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a)  this restricts and controls what you can do on your own computer, i-phone or e-book (Digital Rights Manageme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e) a safe social network</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b) a group who develop free, open versions of software (Free Software Foundat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d) a way to protect personal freedom and privacy and avoid censorship</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84280"/>
            <a:ext cx="8229600" cy="21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he text in more detail.</a:t>
            </a:r>
            <a:br>
              <a:rPr sz="4000"/>
            </a:br>
            <a:r>
              <a:rPr b="0" lang="en-GB" sz="4000" spc="-1" strike="noStrike">
                <a:solidFill>
                  <a:srgbClr val="000000"/>
                </a:solidFill>
                <a:latin typeface="Calibri"/>
              </a:rPr>
              <a:t> </a:t>
            </a:r>
            <a:br>
              <a:rPr sz="4000"/>
            </a:br>
            <a:r>
              <a:rPr b="0" lang="en-GB" sz="4000" spc="-1" strike="noStrike">
                <a:solidFill>
                  <a:srgbClr val="000000"/>
                </a:solidFill>
                <a:latin typeface="Calibri"/>
              </a:rPr>
              <a:t> </a:t>
            </a:r>
            <a:br>
              <a:rPr sz="4000"/>
            </a:br>
            <a:br>
              <a:rPr sz="4000"/>
            </a:br>
            <a:endParaRPr b="0" lang="en-US" sz="4000" spc="-1" strike="noStrike">
              <a:solidFill>
                <a:srgbClr val="000000"/>
              </a:solidFill>
              <a:latin typeface="Calibri"/>
            </a:endParaRPr>
          </a:p>
        </p:txBody>
      </p:sp>
      <p:sp>
        <p:nvSpPr>
          <p:cNvPr id="89" name=""/>
          <p:cNvSpPr txBox="1"/>
          <p:nvPr/>
        </p:nvSpPr>
        <p:spPr>
          <a:xfrm>
            <a:off x="457200" y="2060280"/>
            <a:ext cx="8229600" cy="406548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nal sentence is: “Open systems and the people who design them deserve our support.” Why? – read to find some reasons:</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Digital_freedom:_don%27t_get_angry,_be_open</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discuss i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1" name=""/>
          <p:cNvSpPr txBox="1"/>
          <p:nvPr/>
        </p:nvSpPr>
        <p:spPr>
          <a:xfrm>
            <a:off x="323640" y="1413000"/>
            <a:ext cx="856908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groups, write a formal letter to the people who design free software to 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ar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think the free software is so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can look back at the text for ideas to help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a:t>
            </a:r>
            <a:endParaRPr b="0" lang="en-US" sz="4000" spc="-1" strike="noStrike">
              <a:solidFill>
                <a:srgbClr val="000000"/>
              </a:solidFill>
              <a:latin typeface="Calibri"/>
            </a:endParaRPr>
          </a:p>
        </p:txBody>
      </p:sp>
      <p:sp>
        <p:nvSpPr>
          <p:cNvPr id="93" name=""/>
          <p:cNvSpPr txBox="1"/>
          <p:nvPr/>
        </p:nvSpPr>
        <p:spPr>
          <a:xfrm>
            <a:off x="457200" y="1125360"/>
            <a:ext cx="822960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Read the original version of both text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ten-steps-software-freed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open-source-digital-freedom-keynote/</a:t>
            </a:r>
            <a:endParaRPr b="0" lang="en-US" sz="2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see how much more vocabulary and grammar you lea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a related text about Anonymo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How_Anonymous_got_political  </a:t>
            </a:r>
            <a:r>
              <a:rPr b="0" lang="en-GB" sz="3200" spc="-1" strike="noStrike">
                <a:solidFill>
                  <a:srgbClr val="000000"/>
                </a:solidFill>
                <a:latin typeface="Calibri"/>
              </a:rPr>
              <a:t>(easier Engli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www.newint.org/features/2012/12/01/anonymous-into-politics/  </a:t>
            </a:r>
            <a:r>
              <a:rPr b="0" lang="en-GB" sz="3200" spc="-1" strike="noStrike">
                <a:solidFill>
                  <a:srgbClr val="000000"/>
                </a:solidFill>
                <a:latin typeface="Calibri"/>
              </a:rPr>
              <a:t>(original ver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457200" y="907560"/>
            <a:ext cx="8229600" cy="5218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tarter: </a:t>
            </a:r>
            <a:r>
              <a:rPr b="0" lang="en-GB" sz="4400" spc="-1" strike="noStrike">
                <a:solidFill>
                  <a:srgbClr val="000000"/>
                </a:solidFill>
                <a:latin typeface="Calibri"/>
              </a:rPr>
              <a:t>a video / chat</a:t>
            </a:r>
            <a:endParaRPr b="0" lang="en-US" sz="4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 </a:t>
            </a:r>
            <a:r>
              <a:rPr b="0" lang="en-GB" sz="4000" spc="-1" strike="noStrike">
                <a:solidFill>
                  <a:srgbClr val="000000"/>
                </a:solidFill>
                <a:latin typeface="Calibri"/>
              </a:rPr>
              <a:t>how much do you know?</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Reading: </a:t>
            </a:r>
            <a:r>
              <a:rPr b="0" lang="en-GB" sz="4000" spc="-1" strike="noStrike">
                <a:solidFill>
                  <a:srgbClr val="000000"/>
                </a:solidFill>
                <a:latin typeface="Calibri"/>
              </a:rPr>
              <a:t>2 texts about the Internet</a:t>
            </a: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peaking: </a:t>
            </a:r>
            <a:r>
              <a:rPr b="0" lang="en-GB" sz="3600" spc="-1" strike="noStrike">
                <a:solidFill>
                  <a:srgbClr val="000000"/>
                </a:solidFill>
                <a:latin typeface="Calibri"/>
              </a:rPr>
              <a:t>discuss ideas from the texts</a:t>
            </a:r>
            <a:endParaRPr b="0" lang="en-US" sz="36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riting: </a:t>
            </a:r>
            <a:r>
              <a:rPr b="0" lang="en-GB" sz="4400" spc="-1" strike="noStrike">
                <a:solidFill>
                  <a:srgbClr val="000000"/>
                </a:solidFill>
                <a:latin typeface="Calibri"/>
              </a:rPr>
              <a:t>a letter of thanks</a:t>
            </a:r>
            <a:endParaRPr b="0" lang="en-US" sz="4400" spc="-1" strike="noStrike">
              <a:solidFill>
                <a:srgbClr val="000000"/>
              </a:solidFill>
              <a:latin typeface="Calibri"/>
            </a:endParaRPr>
          </a:p>
        </p:txBody>
      </p:sp>
      <p:pic>
        <p:nvPicPr>
          <p:cNvPr id="55" name="Picture 3" descr="computer_typing2_opt.jpeg"/>
          <p:cNvPicPr/>
          <p:nvPr/>
        </p:nvPicPr>
        <p:blipFill>
          <a:blip r:embed="rId1"/>
          <a:stretch/>
        </p:blipFill>
        <p:spPr>
          <a:xfrm>
            <a:off x="6300720" y="476280"/>
            <a:ext cx="2552760" cy="15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atch this 2-minute video</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and think .... how does “Dave” know so much?</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en.avaaz.org/833/this-will-put-psychics-out-of-business?utm_source=facebook_avaaz4&amp;utm_medium=social_media&amp;utm_campaign=hot-vide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a:t>
            </a:r>
            <a:r>
              <a:rPr b="0" lang="en-GB" sz="4000" spc="-1" strike="noStrike">
                <a:solidFill>
                  <a:srgbClr val="000000"/>
                </a:solidFill>
                <a:latin typeface="Calibri"/>
              </a:rPr>
              <a:t> </a:t>
            </a:r>
            <a:br>
              <a:rPr sz="4000"/>
            </a:br>
            <a:r>
              <a:rPr b="0" lang="en-GB" sz="4000" spc="-1" strike="noStrike">
                <a:solidFill>
                  <a:srgbClr val="000000"/>
                </a:solidFill>
                <a:latin typeface="Calibri"/>
              </a:rPr>
              <a:t>first discuss what you think in groups</a:t>
            </a:r>
            <a:endParaRPr b="0" lang="en-US" sz="4000" spc="-1" strike="noStrike">
              <a:solidFill>
                <a:srgbClr val="000000"/>
              </a:solidFill>
              <a:latin typeface="Calibri"/>
            </a:endParaRPr>
          </a:p>
        </p:txBody>
      </p:sp>
      <p:sp>
        <p:nvSpPr>
          <p:cNvPr id="59" name=""/>
          <p:cNvSpPr txBox="1"/>
          <p:nvPr/>
        </p:nvSpPr>
        <p:spPr>
          <a:xfrm>
            <a:off x="323640" y="1413000"/>
            <a:ext cx="8569080" cy="5184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What are the 5 countries where Facebook is used mo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What are the 5 countries where there is mo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What are the 5 countries where there is lea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What is downloaded free from the Internet most: music, films or pornograph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at percentage of people think it’s OK to share files onlin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at percentage of people in the world have access to the Intern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785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find the answers: </a:t>
            </a:r>
            <a:r>
              <a:rPr b="0" lang="en-GB" sz="1000" spc="-1" strike="noStrike">
                <a:solidFill>
                  <a:srgbClr val="000000"/>
                </a:solidFill>
                <a:latin typeface="Calibri"/>
              </a:rPr>
              <a:t>http://www.newint.org/features/2012/12/01/digital-freedoms-infographic/</a:t>
            </a:r>
            <a:r>
              <a:rPr b="0" lang="en-GB" sz="4000" spc="-1" strike="noStrike">
                <a:solidFill>
                  <a:srgbClr val="000000"/>
                </a:solidFill>
                <a:latin typeface="Calibri"/>
              </a:rPr>
              <a:t> </a:t>
            </a:r>
            <a:endParaRPr b="0" lang="en-US" sz="4000" spc="-1" strike="noStrike">
              <a:solidFill>
                <a:srgbClr val="000000"/>
              </a:solidFill>
              <a:latin typeface="Calibri"/>
            </a:endParaRPr>
          </a:p>
        </p:txBody>
      </p:sp>
      <p:pic>
        <p:nvPicPr>
          <p:cNvPr id="61" name="Content Placeholder 3" descr="internet facts.jpg"/>
          <p:cNvPicPr/>
          <p:nvPr/>
        </p:nvPicPr>
        <p:blipFill>
          <a:blip r:embed="rId1"/>
          <a:stretch/>
        </p:blipFill>
        <p:spPr>
          <a:xfrm>
            <a:off x="0" y="620640"/>
            <a:ext cx="9220320" cy="623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63" name=""/>
          <p:cNvSpPr txBox="1"/>
          <p:nvPr/>
        </p:nvSpPr>
        <p:spPr>
          <a:xfrm>
            <a:off x="250920" y="907560"/>
            <a:ext cx="5184720" cy="5689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What are the 5 countries that use Facebook mos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What are the 5 countries where there is mo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What are the 5 countries where there is lea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What is downloaded free from the Internet most: music, films or pornograph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What percentage of people think it’s OK to share files onlin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6. What percentage of people in the world have access to the Intern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
          <p:cNvSpPr txBox="1"/>
          <p:nvPr/>
        </p:nvSpPr>
        <p:spPr>
          <a:xfrm>
            <a:off x="5435640" y="836640"/>
            <a:ext cx="3457440" cy="5616720"/>
          </a:xfrm>
          <a:prstGeom prst="rect">
            <a:avLst/>
          </a:prstGeom>
          <a:noFill/>
          <a:ln w="0">
            <a:noFill/>
          </a:ln>
        </p:spPr>
        <p:txBody>
          <a:bodyPr anchor="t">
            <a:normAutofit/>
          </a:bodyPr>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razil, India, Indonesia, Mexico and the US</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ran, China, Cuba, Syria and Uzbekistan</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stonia, US, Germany, Australia and Hungary</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rnography (36%) (films – 34%; music 3%)</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7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is the Internet – in your country? in the UK and the U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should it b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can it be freer?</a:t>
            </a:r>
            <a:endParaRPr b="0" lang="en-US" sz="4800" spc="-1" strike="noStrike">
              <a:solidFill>
                <a:srgbClr val="000000"/>
              </a:solidFill>
              <a:latin typeface="Calibri"/>
            </a:endParaRPr>
          </a:p>
        </p:txBody>
      </p:sp>
      <p:pic>
        <p:nvPicPr>
          <p:cNvPr id="67" name="Picture 3" descr="internet facts.jpg"/>
          <p:cNvPicPr/>
          <p:nvPr/>
        </p:nvPicPr>
        <p:blipFill>
          <a:blip r:embed="rId1"/>
          <a:stretch/>
        </p:blipFill>
        <p:spPr>
          <a:xfrm>
            <a:off x="6084720" y="4724280"/>
            <a:ext cx="284328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69"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re going to read a text called:</a:t>
            </a:r>
            <a:endParaRPr b="0" lang="en-US" sz="3000" spc="-1" strike="noStrike">
              <a:solidFill>
                <a:srgbClr val="000000"/>
              </a:solidFill>
              <a:latin typeface="Calibri"/>
            </a:endParaRPr>
          </a:p>
          <a:p>
            <a:pPr marL="343080" indent="-343080">
              <a:lnSpc>
                <a:spcPct val="9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100" spc="-1" strike="noStrike">
                <a:solidFill>
                  <a:srgbClr val="000000"/>
                </a:solidFill>
                <a:latin typeface="Calibri"/>
              </a:rPr>
              <a:t>   </a:t>
            </a:r>
            <a:r>
              <a:rPr b="1" lang="en-GB" sz="6100" spc="-1" strike="noStrike">
                <a:solidFill>
                  <a:srgbClr val="000000"/>
                </a:solidFill>
                <a:latin typeface="Calibri"/>
              </a:rPr>
              <a:t>How to be free</a:t>
            </a:r>
            <a:endParaRPr b="0" lang="en-US" sz="61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r>
              <a:rPr b="1" i="1" lang="en-GB" sz="3000" spc="-1" strike="noStrike">
                <a:solidFill>
                  <a:srgbClr val="000000"/>
                </a:solidFill>
                <a:latin typeface="Calibri"/>
              </a:rPr>
              <a:t>Charlie Harvey</a:t>
            </a:r>
            <a:r>
              <a:rPr b="0" i="1" lang="en-GB" sz="3000" spc="-1" strike="noStrike">
                <a:solidFill>
                  <a:srgbClr val="000000"/>
                </a:solidFill>
                <a:latin typeface="Calibri"/>
              </a:rPr>
              <a:t> tells us about 10 steps to       software freedom on the interne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cuss: What do you think will be in the tex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How_to_be_free</a:t>
            </a: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Picture 3" descr="computer_typing2_opt.jpeg"/>
          <p:cNvPicPr/>
          <p:nvPr/>
        </p:nvPicPr>
        <p:blipFill>
          <a:blip r:embed="rId2"/>
          <a:stretch/>
        </p:blipFill>
        <p:spPr>
          <a:xfrm>
            <a:off x="5940360" y="260280"/>
            <a:ext cx="3086280" cy="18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856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ow read it to match the paragraphs to the subtitles:</a:t>
            </a:r>
            <a:endParaRPr b="0" lang="en-US" sz="3000" spc="-1" strike="noStrike">
              <a:solidFill>
                <a:srgbClr val="000000"/>
              </a:solidFill>
              <a:latin typeface="Calibri"/>
            </a:endParaRPr>
          </a:p>
        </p:txBody>
      </p:sp>
      <p:sp>
        <p:nvSpPr>
          <p:cNvPr id="72" name=""/>
          <p:cNvSpPr txBox="1"/>
          <p:nvPr/>
        </p:nvSpPr>
        <p:spPr>
          <a:xfrm>
            <a:off x="107640" y="836280"/>
            <a:ext cx="2808360" cy="583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
          <p:cNvSpPr txBox="1"/>
          <p:nvPr/>
        </p:nvSpPr>
        <p:spPr>
          <a:xfrm>
            <a:off x="2843280" y="836640"/>
            <a:ext cx="6192720" cy="5688000"/>
          </a:xfrm>
          <a:prstGeom prst="rect">
            <a:avLst/>
          </a:prstGeom>
          <a:noFill/>
          <a:ln w="0">
            <a:noFill/>
          </a:ln>
        </p:spPr>
        <p:txBody>
          <a:bodyPr anchor="t">
            <a:normAutofit fontScale="98000"/>
          </a:bodyPr>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 Try these:  For browsing: Firefox; For secure web chat: CryptoCat; For word processing: LibreOffice; For graphic editing: GIM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 More artists are releasing their work under free or open licences like those from Creative Commons. Listen to their music, read their books, and make donations to support this growing re-mix culture:freemusicarchive.org search.creativecommons.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 It costs nothing, it is often more stable and it sometimes works better. It also lets you see the code your computer is running, and change this code if necessary. Free software is now far easier to use together with other program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 Software can’t do anything alone. We need political change, better privacy and regulation of copyright too. Join these groups and support the fight for a free internet: Electronic Frontier Foundation Open Rights Group Liberty Index on Censorshi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 Digital Survival Guide: Basic intro to computers, internet and mobile use; Top 12 ways to protect your online privacy: eff.org; Look at these technical resources that make your internet use more private: techtoolsforactivism.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g) Help the free software community to grow. You can report bugs, request new features, offer to do translation or design, or – if you’re good at coding– write code.</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16:43:18Z</dcterms:created>
  <dc:creator>Mix</dc:creator>
  <dc:description/>
  <dc:language>en-US</dc:language>
  <cp:lastModifiedBy>Mix</cp:lastModifiedBy>
  <dcterms:modified xsi:type="dcterms:W3CDTF">2013-01-02T14:43:57Z</dcterms:modified>
  <cp:revision>24</cp:revision>
  <dc:subject/>
  <dc:title>The Internet</dc:title>
</cp:coreProperties>
</file>